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7D8-1FC8-4A07-B69F-54E1AE38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BB9-C527-4724-AC70-02F1CA85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A8B-9B30-4197-8C9F-AECD0828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98D-22FE-44BE-ACC8-E1BA8CBA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B799-209C-43A6-AB99-98FA5229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9B1B-71F6-4BAC-AA3D-ABB16BE8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096-2BEC-49E2-B121-E2C0518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54FD-A71C-4FB7-8AD3-99E94C51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FCCE-3E41-4931-9764-6A3AFD7A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C35C-09FB-439B-BCB0-E1497C6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0A3-88BD-43AA-A897-78CBE01B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BA8-044D-40B6-8106-25FAAC16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610B-01D4-4654-931B-D8F868D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218D-4C30-4A92-8FF8-41AF381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EF21-B1C5-4166-AE28-434F59FE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1DB7-0080-4FED-A726-C3FDB3F0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D85F-3723-4F38-9D72-98D3E25F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23C6-23C5-44D6-9F0F-215D004A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78EB-97B4-49E1-8465-C54C54F9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6197-D6A1-4109-BDFB-8CDD4ED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44AF-6D78-4B6B-8826-DF74B4D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2DB1-5D40-4C9F-9B92-E903EB00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960-7F80-4FC5-85A2-38646B3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32C6-C1EB-42DA-AB72-584D1C30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9DF4-37D5-4A14-BB6D-E012C69F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48F9-A24F-4073-A6C8-1ED3B15C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5BE9-7567-41B0-AC90-8A347DF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7F814-E8AB-40F4-9659-C733715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AEE7-9017-434F-8EE1-A2EA028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C40E-73B4-4F04-A1E5-0C92058F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E861-ED3D-4FE3-95D0-451704F6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4707-4A62-4771-94D3-3893DE00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711E-5A54-4C10-8759-B139FF4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DC5-1E9F-4737-832B-E3090E0A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DB37-549C-4BD7-AB72-3942D675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788D-99EA-40FF-B2BE-2C1954A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9A04-5B4F-496F-8724-27C3924A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C672-525F-4075-B08A-4B43195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98BE6-A1F2-4890-B0F8-9A55AEF9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40E1C-210C-4B86-88D3-718011FD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F3CF-62A9-4017-87C7-9752AD86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951A-44C8-42CE-8EF6-66422F00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C440-712B-4DBA-93F7-1949C854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6F52-EF9C-46ED-BBA3-DC508338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479-EDEC-41DE-8DE2-CDC0B23F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964BF-FFFF-4823-B1FF-CB5AB09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545D-9375-4495-93F8-621EAA8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A11D-4F40-4BF5-BFD8-6D8C9C86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0646-1442-4F3E-A72F-0C696F6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A536-DEB7-4388-A7BB-E4BDC158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0FCD-E912-49AA-A354-2AAEA1D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7FA0-F221-4E0E-B869-632164D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8A13-71FB-41F8-A6B3-61649FC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4D79-2D7A-4BCA-BB1F-82BA67DF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85E0-120A-477B-AF02-1EF546EE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901-28DB-4436-9A9E-51006671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6F2F-159E-43E4-9781-F9818FE6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34ED5-C3F3-4DBB-B91F-3C1DC6C2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FCDC-5EB4-4A87-8E69-EC4E954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51008-9FDF-4D2E-B543-2C334411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F6E8-5786-4A17-BDFD-C568F65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2BC24-425B-4731-8AC3-7390AE2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BF00-B920-46C9-A870-EFB120A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94953-6867-48D2-A55C-E60ACC8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1CCA2-A4A3-4247-A4DC-3D8B85EA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C2764-F699-40A4-8AAE-33C10B3F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60A-1A0E-4AAB-8ED7-84A53F9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BCC2F-DA2E-4448-BE36-85A716D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3256B-10DE-4B5D-8D78-9CE682E1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B7C98-C193-4F2E-A07A-820CA6E2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0A6C-8B0D-418A-9EF5-728C11FB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8A8C-B35D-4118-8AC9-44E108B9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3D5DF-6B02-478E-8D24-4D0D2A81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B8DB-D817-4733-BDF2-FD22E79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4DD0-5F35-4692-BA9E-1ADE04FF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0F598-DC55-4520-A884-A8F69004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5459-4D68-4736-B996-A4EF82A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F16-5EE3-4B13-842C-03871A69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98138-1E0C-4930-8D9D-A5BF6C29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DAD5-178F-4D09-A0CC-1A5FEC0B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7153C-42F1-4397-86A3-AAB2C1FE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73D7-2D28-4BB9-B8E7-A0010D16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0809-BE80-4D1A-AF1C-0B5017B7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5E32-389B-4997-900B-1A4A67BE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7DC6A-81F6-46EA-BF11-682E3CFC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4991C-6DB8-4336-8BCA-81CC6702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3EDE-334F-4E7E-85A2-C7D0F05C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81016-A32D-4740-B11E-415F6B03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9A2C-5B5B-4D62-9AB2-1C1373CB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A5A3E-C35D-4FDA-8C9A-B1EBF752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0A16-8CA0-4FE6-B182-131235A1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2177A-D353-4EA6-B30D-E44A0D70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AE0E-FB25-4757-910A-31BF99E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0BF1-9BA9-4F0A-B1A6-8586308C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4067F-D221-44DB-99CB-09FC4B14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D9C2B-18B5-4B87-A4D4-323E18C9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D38C-231E-432B-8292-4E7D5FC25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065B-83A0-4090-A950-1FD1D4E2F1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EB1B-09D1-42DF-A3C3-EA57F99F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C7D-89B0-49F6-B397-687CED86EB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57DA-8502-42C4-A237-8404A66F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B3E-AEDF-4420-B85B-9BBB6263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0A10-898C-403E-A797-BB24B8C566C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5EC-E530-43FA-93DA-09A3744A3B2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2800" cy="1841400"/>
          </a:xfrm>
          <a:prstGeom prst="rect">
            <a:avLst/>
          </a:prstGeom>
          <a:ln w="0">
            <a:noFill/>
          </a:ln>
        </p:spPr>
      </p:pic>
      <p:sp>
        <p:nvSpPr>
          <p:cNvPr id="346" name="WordArt 4"/>
          <p:cNvSpPr txBox="1"/>
          <p:nvPr/>
        </p:nvSpPr>
        <p:spPr>
          <a:xfrm>
            <a:off x="1752480" y="1676520"/>
            <a:ext cx="5410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otDog"/>
              </a:rPr>
              <a:t>ApOsTrOpHeS pOwErPoInT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otDog"/>
              <a:ea typeface="HotDo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755640" y="225360"/>
            <a:ext cx="8064360" cy="2371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294920" y="2743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3352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094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2971800" y="2362320"/>
            <a:ext cx="1447920" cy="380880"/>
          </a:xfrm>
          <a:prstGeom prst="rightArrow">
            <a:avLst>
              <a:gd name="adj1" fmla="val 50000"/>
              <a:gd name="adj2" fmla="val 95038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48769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t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609480" y="2895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2743200" y="3276720"/>
            <a:ext cx="1219320" cy="380880"/>
          </a:xfrm>
          <a:prstGeom prst="rightArrow">
            <a:avLst>
              <a:gd name="adj1" fmla="val 50000"/>
              <a:gd name="adj2" fmla="val 80033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47242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tlin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85800" y="3809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s if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2438280" y="4267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572000" y="4038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tlin’s Miley Cyrus C.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owner                        Je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apostrophes                    Jess’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the s if there is one         Jesse’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962520" y="2057400"/>
            <a:ext cx="2133360" cy="4572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267080" y="3200400"/>
            <a:ext cx="2057400" cy="533520"/>
          </a:xfrm>
          <a:prstGeom prst="rightArrow">
            <a:avLst>
              <a:gd name="adj1" fmla="val 50000"/>
              <a:gd name="adj2" fmla="val 9640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5486400" y="42670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owner                     Ann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apostrophes                 Anna’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the s if there is one        Anna’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Right Arrow 5"/>
          <p:cNvSpPr/>
          <p:nvPr/>
        </p:nvSpPr>
        <p:spPr>
          <a:xfrm>
            <a:off x="4143240" y="2071800"/>
            <a:ext cx="157176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388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ight Arrow 6"/>
          <p:cNvSpPr/>
          <p:nvPr/>
        </p:nvSpPr>
        <p:spPr>
          <a:xfrm>
            <a:off x="4286160" y="3286080"/>
            <a:ext cx="157176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388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ight Arrow 7"/>
          <p:cNvSpPr/>
          <p:nvPr/>
        </p:nvSpPr>
        <p:spPr>
          <a:xfrm>
            <a:off x="5357880" y="4357800"/>
            <a:ext cx="857160" cy="500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388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00:52Z</dcterms:created>
  <dc:creator>502</dc:creator>
  <dc:description/>
  <dc:language>en-US</dc:language>
  <cp:lastModifiedBy>gr56</cp:lastModifiedBy>
  <dcterms:modified xsi:type="dcterms:W3CDTF">2009-09-04T00:33:59Z</dcterms:modified>
  <cp:revision>5</cp:revision>
  <dc:subject/>
  <dc:title>PowerPoint Presentation</dc:title>
</cp:coreProperties>
</file>